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7ED-27F0-4657-A174-A2A85988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96A-405E-46C3-846E-011972C6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87E-DB76-4F90-824F-06F4BFBB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FA5-2F76-4A7C-8414-B0ECEB6E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54B-8CC4-4C03-89E0-0F0767B5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289-4C35-4964-B535-26496187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892-E7D2-409A-9F6C-2D265705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1A8-98FD-4076-998C-BB764D8F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1C5-06FC-4061-A0A0-A9694561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057-0F83-4E44-BE71-C8864E25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01E-262A-4A18-A0A0-2F08058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C22-E48A-4D90-B19E-1FD45E40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9429-37F6-4DC4-9702-DD2F54296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bercrombie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reenamerica.org/programs/responsibleshopper/" TargetMode="External"/><Relationship Id="rId2" Type="http://schemas.openxmlformats.org/officeDocument/2006/relationships/hyperlink" Target="http://greenamerica.org/programs/responsibleshopper/" TargetMode="External"/><Relationship Id="rId3" Type="http://schemas.openxmlformats.org/officeDocument/2006/relationships/hyperlink" Target="http://greenamerica.org/programs/responsibleshopper/" TargetMode="External"/><Relationship Id="rId4" Type="http://schemas.openxmlformats.org/officeDocument/2006/relationships/hyperlink" Target="http://www.greenamerica.org/proGrams/responsibleshopper/company.cfm?id=178" TargetMode="External"/><Relationship Id="rId5" Type="http://schemas.openxmlformats.org/officeDocument/2006/relationships/hyperlink" Target="http://www.greenamerica.org/proGrams/responsibleshopper/company.cfm?id=178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5257800"/>
            <a:ext cx="38862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By: Christopher Nun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5105520"/>
            <a:ext cx="7391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Am I Wearing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447920"/>
            <a:ext cx="845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 •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Abercrombie and Fitch (A&amp;F) clothing is a staple in many high scholars’ closets. Yet for clothing worn primarily by young people, much of it is considered inappropri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•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A&amp;F was the subject of a boycott for selling t-shirts with sexist slogans and came under fire for selling thong underwear aimed at preteens with messages such as “wink wink” or “eye candy,” and for having a sexually provocative catalog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• </a:t>
            </a:r>
            <a:r>
              <a:rPr b="0" lang="en-US" sz="2000" spc="-1" strike="noStrike">
                <a:solidFill>
                  <a:srgbClr val="0000ff"/>
                </a:solidFill>
                <a:latin typeface="Broadway"/>
              </a:rPr>
              <a:t>The company has been sued for discriminating against employees who didn’t fit the Abercrombie “look.” </a:t>
            </a:r>
            <a:r>
              <a:rPr b="1" lang="en-US" sz="2000" spc="-1" strike="noStrike">
                <a:solidFill>
                  <a:srgbClr val="0000ff"/>
                </a:solidFill>
                <a:latin typeface="Broadway"/>
              </a:rPr>
              <a:t>Abercrombie &amp; Fitch sells men's, women's, and children's casual clothes in 850 US stores, catalogs, and onl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roadway"/>
              </a:rPr>
              <a:t>A&amp;F targets teens and college students through its provocative advertising campaig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2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Broadway"/>
              </a:rPr>
              <a:t>Into About  Abercromb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Where Abercrombie Come From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From Viet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And Contact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Abercrombie &amp; Fitch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New Albany, OH 43054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Phone: 614-283-6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Web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Broadway"/>
                <a:hlinkClick r:id="rId1"/>
              </a:rPr>
              <a:t>www.abercrombi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roadway"/>
              </a:rPr>
              <a:t>I went to http://baggettsenglish3p1.wikispaces.com/ then I found some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roadway"/>
              </a:rPr>
              <a:t>- I clicked on the one that sai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2"/>
              </a:rPr>
              <a:t>greenamerica.org/programs/responsibleshoppe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roadway"/>
              </a:rPr>
              <a:t>– </a:t>
            </a:r>
            <a:r>
              <a:rPr b="1" lang="en-US" sz="2400" spc="-1" strike="noStrike">
                <a:solidFill>
                  <a:srgbClr val="0000ff"/>
                </a:solidFill>
                <a:latin typeface="Broadway"/>
              </a:rPr>
              <a:t>Then where say search I put Abercrombie and then I found this pages where I found a lot of information about it.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4"/>
              </a:rPr>
              <a:t>http://www.greenamerica.org/proGrams/responsibleshopper/company.cfm?id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roadway"/>
                <a:hlinkClick r:id="rId5"/>
              </a:rPr>
              <a:t>=1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roadway"/>
              </a:rPr>
              <a:t>                 </a:t>
            </a:r>
            <a:r>
              <a:rPr b="1" lang="en-US" sz="3200" spc="-1" strike="noStrike">
                <a:solidFill>
                  <a:srgbClr val="0000ff"/>
                </a:solidFill>
                <a:latin typeface="Broadway"/>
              </a:rPr>
              <a:t>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533520" y="0"/>
            <a:ext cx="29718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41:48Z</dcterms:created>
  <dc:creator>Administrator</dc:creator>
  <dc:description/>
  <dc:language>en-US</dc:language>
  <cp:lastModifiedBy>LPS</cp:lastModifiedBy>
  <dcterms:modified xsi:type="dcterms:W3CDTF">2010-11-18T16:05:57Z</dcterms:modified>
  <cp:revision>6</cp:revision>
  <dc:subject/>
  <dc:title>By: Christopher Nunez</dc:title>
</cp:coreProperties>
</file>